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57941"/>
        <c:axId val="13197567"/>
      </c:barChart>
      <c:catAx>
        <c:axId val="53757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97567"/>
        <c:crosses val="autoZero"/>
        <c:auto val="1"/>
        <c:lblAlgn val="ctr"/>
        <c:lblOffset val="100"/>
        <c:noMultiLvlLbl val="0"/>
      </c:catAx>
      <c:valAx>
        <c:axId val="13197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57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347-469E-4342-8F74-E91DEA58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425-9604-4B53-AAD8-B7F8B32D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0D7-B56F-48A2-8C00-E4FC82CF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687-46FE-448A-887C-1847D8ED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480-70C3-4921-8A4E-8765281B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5E5-FDE7-4C10-9CBE-083948BD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BA6-E1BE-49A5-908C-8C105FAE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0A5-1B77-48DC-A21F-984B1FB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995-A2A2-4A75-85AB-20381348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7DA-FD36-42DF-935F-5F6098A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C66-E26E-444D-AFA9-B4E388E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A06-338C-4E97-AE6B-1F33EF67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C2ECC-5622-43F3-B8D4-9F49A3BA21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