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811145-1EB3-4182-AFE4-94684E0E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1857E3-6E8B-44CE-BF32-37D6F2B47D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326DC7-18E6-4D57-9367-57158B81A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AFEAB-C62F-43DF-B05C-4F0890F32DE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A9CF3-B45C-4057-B127-345EC32AC8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A78E3-5042-46E0-916C-606BE356BA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B3C0-FC84-4148-99B2-3FBEDE7968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2CC63-0BA0-43B3-95AF-3FB125A015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7F8CB-A7F8-4D0E-A7BD-D8B58345C6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C460A8-0518-4A71-91AC-416C3C618F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9125E-37EA-4894-82C7-C4FEE7D0B1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BBB268-6244-4123-8721-D7E523DC87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680629-A4C9-4AAE-A485-C885DE3D24C6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Symbol"/>
                <a:ea typeface="Symbol"/>
              </a:rPr>
              <a:t>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Symbol, Club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Arial"/>
                <a:ea typeface="Arial"/>
              </a:rPr>
              <a:t>►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‘Normal’, Play arrow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Monotype Sorts"/>
                <a:ea typeface="Monotype Sorts"/>
              </a:rPr>
              <a:t>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MT Sorts, 5 point star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subTitle"/>
          </p:nvPr>
        </p:nvSpPr>
        <p:spPr>
          <a:xfrm>
            <a:off x="1187280" y="1125000"/>
            <a:ext cx="6400800" cy="4751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100000"/>
              </a:lnSpc>
              <a:spcBef>
                <a:spcPts val="24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000000"/>
                </a:solidFill>
                <a:latin typeface="Wingdings"/>
                <a:ea typeface="Wingdings"/>
              </a:rPr>
              <a:t>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9600" spc="-1" strike="noStrike">
                <a:solidFill>
                  <a:srgbClr val="000000"/>
                </a:solidFill>
                <a:latin typeface="Arial"/>
              </a:rPr>
              <a:t>- Wingdings, Smiley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8-18T10:46:03Z</dcterms:created>
  <dc:creator>Michael</dc:creator>
  <dc:description/>
  <dc:language>en-US</dc:language>
  <cp:lastModifiedBy>Michael</cp:lastModifiedBy>
  <dcterms:modified xsi:type="dcterms:W3CDTF">2004-08-18T10:49:19Z</dcterms:modified>
  <cp:revision>2</cp:revision>
  <dc:subject/>
  <dc:title>Slide 1</dc:title>
</cp:coreProperties>
</file>