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E25E10-6693-41D5-9C05-CF1DC63109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281A3E-0AEE-49FA-AD83-DA1ED0A0C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61B80B-31BD-4FDC-91E6-009365C45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2214CC-20C2-4521-881F-91D03092EC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43A87B-C146-4144-AA6E-57B5890F59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62F8C-3A34-466A-9153-BFC90780CCB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CA40F-C147-41C1-9C48-53F9C2906B1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DAD033-D76E-464C-B996-15491C785E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9D9AF2-EE52-40A7-A8BA-C609098B873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3C83E5-5120-418E-B6D2-1A3D8315CDD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8CFC2D-2A85-4CBF-A085-3F070B7F47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6152F-A4C5-4A50-AB1B-E0A3E4458E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1B1FCC-7C9C-4D86-9C28-937BAE3A2AB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ingDings bullet chars test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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circl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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mall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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ectangular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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quare box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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border square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4796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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ite zer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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border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right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right outline arrow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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our filled diamon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large filled diamon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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tar of David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39480" indent="-339480">
              <a:spcBef>
                <a:spcPts val="700"/>
              </a:spcBef>
              <a:buClr>
                <a:srgbClr val="000000"/>
              </a:buClr>
              <a:buFont typeface="Wingdings" charset="2"/>
              <a:buChar char="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filled 5 point st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996-09-30T18:28:10Z</dcterms:created>
  <dc:creator> </dc:creator>
  <dc:description/>
  <dc:language>en-US</dc:language>
  <cp:lastModifiedBy>Bilbo Baggins</cp:lastModifiedBy>
  <dcterms:modified xsi:type="dcterms:W3CDTF">2003-02-24T18:57:51Z</dcterms:modified>
  <cp:revision>5</cp:revision>
  <dc:subject/>
  <dc:title>WingDings bullet chars test:</dc:title>
</cp:coreProperties>
</file>