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91461"/>
        <c:axId val="1292411"/>
      </c:barChart>
      <c:catAx>
        <c:axId val="70891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2411"/>
        <c:crosses val="autoZero"/>
        <c:auto val="1"/>
        <c:lblAlgn val="ctr"/>
        <c:lblOffset val="100"/>
        <c:noMultiLvlLbl val="0"/>
      </c:catAx>
      <c:valAx>
        <c:axId val="1292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91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717-86ED-471C-8AAE-4CAE9423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8F5-CDE8-4E0B-870F-6F8536D6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7DF-6DD4-4B91-AA35-FE7125EE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65E-F742-4D29-8CC5-44A85AE7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6E4-0F5F-4E1D-BE44-C952357E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49C-4FF9-479C-BD5F-288DABA0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3BD-9187-497B-B3CC-39C64752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7FC-155D-4743-B15C-F5D63F1D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0E0-5E72-4568-A466-5BB1B4E2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BFD-4536-4B3B-98D5-50D55AD0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BC8-81E8-4D44-8A56-4B1949C1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566-0CA0-4262-ADE1-D834AA36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4BB6D-3E44-48CE-8596-700133FF58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