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4737"/>
        <c:axId val="49090276"/>
      </c:barChart>
      <c:catAx>
        <c:axId val="2454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90276"/>
        <c:crosses val="autoZero"/>
        <c:auto val="1"/>
        <c:lblAlgn val="ctr"/>
        <c:lblOffset val="100"/>
        <c:noMultiLvlLbl val="0"/>
      </c:catAx>
      <c:valAx>
        <c:axId val="49090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F0A-8D15-4842-B964-B6A53350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5AB-AE73-4CFD-A898-197B20CC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2D3-82E5-47A3-A888-7AADD1F7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016-D915-471C-8574-C6284D61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EE0-BD49-49E2-BE56-E60185E3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534-22A1-4D8B-840C-D121D4C3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8DE-84AF-4B51-AE3C-DD2E60AA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F8F-E6CD-4E73-B7A7-1BC29A4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47E-3E56-4811-B619-9B5969B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E24-1924-4C4D-830E-1398180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73F-F338-42E5-B2DA-CDFD135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883-0DDA-406E-A5B8-A5E31723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069E-9E54-49F0-A63C-3D492AB2FC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