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92424"/>
        <c:axId val="30683508"/>
      </c:barChart>
      <c:catAx>
        <c:axId val="13192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83508"/>
        <c:crosses val="autoZero"/>
        <c:auto val="1"/>
        <c:lblAlgn val="ctr"/>
        <c:lblOffset val="100"/>
        <c:noMultiLvlLbl val="0"/>
      </c:catAx>
      <c:valAx>
        <c:axId val="30683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92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1B6-0842-4EAF-828B-71A07366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434-894F-48D6-9344-8BDF5C99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136-EC0D-4D2C-97D0-96BF2150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61D-1CF2-4191-902A-F151D995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3EF-9A76-4C51-A679-BDB0300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B39-5D4E-49B3-AD4A-FCC45CE0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D94-EABB-48D3-9137-C6EE381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615-325F-4A02-B29B-0B3ACA5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5EB-1E2B-4206-BF87-7A00C8FE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831-6B19-43B4-B0B9-3DF34B0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FF8-7274-4C03-9182-19BBE82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F9C-A375-489F-AA25-3746037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633B9-89E4-45E4-A8D1-5092D617B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